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FBDE-BE6A-474B-9330-E16B8C024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F1B5-D1B0-49DB-B5C5-88A602DB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B9AF-977B-412D-AADF-24B458171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0239-353A-442D-8436-3C540AF5B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4E73-1047-4FC5-839F-96C858E4D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5350-1723-4E07-A318-99DD2983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CD52-8C7B-499B-A8D4-3D89D794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F23E-70B3-4DAD-B214-EC4AB203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8929-AEA6-4FE3-A67A-5D519453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9FA8-C352-4AFE-928D-A4AEB535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8016-3696-4D19-BCFD-DCCBF638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6167-EE9D-4217-8E57-C03F119E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9A82-1AE4-46D7-82E8-B1A2B87C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744A-D3E1-4E79-9E3A-8B0818E0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1E7B-0616-4CA8-AE40-67712E2A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9370-C01B-4ECC-847A-3804F3B39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9D29-107A-4CA8-9789-156DA61D2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C4C5-7371-40DD-BFD0-3C01C2AE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D315-7C56-45D9-89CF-3B04A77B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53D4-9686-4528-84B6-BF1D7F5F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E6D1-E00D-47A6-AE8A-751152BD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FED9-BBCA-4944-8B66-90B8BF6A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3CDC-B81F-4C2E-BF03-24FE52FF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491D-0FC1-432A-8680-FBD89CD8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F8AE-23FF-4185-8DB3-1904FB54F53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7631-BC13-49DF-AF65-56C5494090C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csl.org/IssuesResearch/Immigration/ImmigrantPolicyProjectRecentImmigrationDevel/tabid/13140/Default.aspx" TargetMode="External"/><Relationship Id="rId2" Type="http://schemas.openxmlformats.org/officeDocument/2006/relationships/hyperlink" Target="http://www.jstor.org/pss/2172312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eseretnews.com/photos/midres/web-416875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ultural Diversity in German Speaking Countrie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ltural Assimilation in German Speaking Count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: Brian Beck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ncsl.org/IssuesResearch/Immigration/ImmigrantPolicyProjectRecentImmigrationDevel/tabid/13140/Default.asp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http://www.jstor.org/pss/21723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bss.sfsu.edu/polisci/documents/Impacts%20of%20Assimulation%20Concepts%20of%20Citizenship%20in%20Germany.pd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ag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ww.deseretnews.com/photos/midres/web-416875.jpg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ww.spiegel.de/img/0,1020,1408830,00.jpg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atthewbrunwasser.com/wp-content/uploads/2010..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ours.360wichita.com/16240/event_21417.jpg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s:/.../1284944661/Map_1914_WWI_Alliances.jpg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isto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ajority of post-WWII immigrants were Russian Jew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rmany’s original policy was to form a unified German people through a similar German cultu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similation became difficult after the 2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entury warfare, due to changes in territorial borde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575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istory (cont.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ederal Expellee and Refugee Law of 1953 ensured only ethnic Germans were allowed back in German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debated whether or not German speaking countries should be unified, and has been since the Holy Roman Empire’s cre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ul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rrently, Turkish Muslims are the largest influx of people into Germany, due to their need for job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y resent Germany’s immigration policy for it tries to force Muslim’s to adopt German culture, which they don’t wan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ny Turk’s forego the immigration process by participating as “guest workers”, and after a certain amount of time gaining citizenship for themselves and their famili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80880" y="4343040"/>
            <a:ext cx="8229600" cy="2171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219320" y="4343400"/>
            <a:ext cx="2095560" cy="2209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419720" y="4343400"/>
            <a:ext cx="4171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ultures (cont.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WWII, Russian Jews were the major immigrants into Germany in an attempt to escape communist discrimin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day, Judaism is one of Germany’s primary religions, and the Jewish people have become a major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urrent German Polici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January of 2001, Germany created a “birthright policy”, which gave citizenship to those born in the count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ly of that year, Germany instituted a green card policy which immediately brought about 9,000 IT specialists to German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German Chancellor Angela Merkel reads files at the beginning the weekly cabinet meeting at the chancellery in Berlin, Germany, Wednesday, March 23, 2011.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urrent German Policies (cont.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rman immigration policies revolve around Labor Migrants, Asylum Seekers, Ethnic Germans, and Contingent Refuge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rman law follows the original edict of the Geneva Convention, which provides safety to foreign refuge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December of 2000, Germany created an employment ban on asylum seekers which limits their work to 12 months and that only if no German citizen is available to take 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religious people are currently immigrating to German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are Germans responding to the increase in foreign citizen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nsw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slamic People or Turkish Musli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rmans are opposed to the number of foreigners in German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13:23:19Z</dcterms:created>
  <dc:creator>SCSadmin</dc:creator>
  <dc:description/>
  <dc:language>en-US</dc:language>
  <cp:lastModifiedBy>SCSadmin</cp:lastModifiedBy>
  <dcterms:modified xsi:type="dcterms:W3CDTF">2011-08-31T14:04:15Z</dcterms:modified>
  <cp:revision>6</cp:revision>
  <dc:subject/>
  <dc:title>Cultural Diversity in German Speaking Countries</dc:title>
</cp:coreProperties>
</file>